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74D-77CE-4ACD-8E0A-716A7D6E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E11-B2EC-4ADD-B7AF-2DBD99C4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7FE-29D1-4849-80C9-44612861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12B-3B79-4621-8B79-B2F14DFD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26D-4606-42E3-8EDC-FC799E87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F9E-F162-4B60-9903-DBC84616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692-EBB3-4AD7-8667-D3B1BAF1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009-3C73-4785-ACBF-A8A1E7C6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D99-0136-4E1F-9614-DFA6DC8E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242-CBFC-4CC6-98E2-7D8E6CA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F41-F609-4B2C-874D-8C0FB33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0F4-5835-4406-8321-698EF60B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7B96-509F-4A50-A1D4-3342D9183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838080"/>
            <a:ext cx="8153640" cy="426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at And Mouse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Win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3219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304920" y="3276720"/>
            <a:ext cx="3581280" cy="1371600"/>
          </a:xfrm>
          <a:prstGeom prst="rightArrow">
            <a:avLst>
              <a:gd name="adj1" fmla="val 50000"/>
              <a:gd name="adj2" fmla="val 652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3962520" y="3276720"/>
            <a:ext cx="3200400" cy="13716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3200400" y="3962520"/>
            <a:ext cx="1447920" cy="2590560"/>
          </a:xfrm>
          <a:prstGeom prst="upArrow">
            <a:avLst>
              <a:gd name="adj1" fmla="val 50000"/>
              <a:gd name="adj2" fmla="val 74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3200400" y="1066680"/>
            <a:ext cx="1447920" cy="289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w It Is Time To Play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24386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6920" y="1905120"/>
            <a:ext cx="198108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52880" y="4952880"/>
            <a:ext cx="32004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u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95280" y="380880"/>
            <a:ext cx="7239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W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 rot="19433400">
            <a:off x="380520" y="3962160"/>
            <a:ext cx="2514600" cy="2438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63600">
            <a:off x="5790960" y="3733920"/>
            <a:ext cx="2971800" cy="2590560"/>
          </a:xfrm>
          <a:custGeom>
            <a:avLst/>
            <a:gdLst>
              <a:gd name="textAreaLeft" fmla="*/ 698400 w 2971800"/>
              <a:gd name="textAreaRight" fmla="*/ 2271240 w 2971800"/>
              <a:gd name="textAreaTop" fmla="*/ 304560 h 2590560"/>
              <a:gd name="textAreaBottom" fmla="*/ 1625040 h 2590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19520"/>
            <a:ext cx="281952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808080"/>
            </a:gs>
            <a:gs pos="100000">
              <a:srgbClr val="33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304920"/>
            <a:ext cx="80769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Los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419720"/>
            <a:ext cx="2286000" cy="2057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2895480"/>
            <a:ext cx="3505320" cy="1676520"/>
          </a:xfrm>
          <a:prstGeom prst="cloudCallout">
            <a:avLst>
              <a:gd name="adj1" fmla="val -44699"/>
              <a:gd name="adj2" fmla="val 6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ww. Dar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914400"/>
            <a:ext cx="8839080" cy="316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y Aga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191120"/>
            <a:ext cx="3276720" cy="236196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1:51Z</dcterms:created>
  <dc:creator>CGB</dc:creator>
  <dc:description/>
  <dc:language>en-US</dc:language>
  <cp:lastModifiedBy>CGB</cp:lastModifiedBy>
  <dcterms:modified xsi:type="dcterms:W3CDTF">2008-06-03T14:21:29Z</dcterms:modified>
  <cp:revision>3</cp:revision>
  <dc:subject/>
  <dc:title>Slide 1</dc:title>
</cp:coreProperties>
</file>